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E585C-2A6B-4838-BB49-58FFEBE2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E8F-3ECF-4F33-870D-EB894D65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7F63-3950-4B51-BB08-94B38D9C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0847-E036-4D8A-87EF-942105213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B8137-7533-4A22-988A-F4716A26C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2CBBE-4DE1-4781-ABC9-DF12EBDA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14156-7A36-410B-9004-8E80F951D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9BB8-2D3D-43A6-9395-F636226DA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91177-3004-4627-9768-E94840ED3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24976-F241-4B65-97FC-FDD436A6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625B5-A6F4-4852-8FB2-9FF1B62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8168-B369-4964-87AC-9ABC280A4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1743A-D31F-4EA9-AE49-F5582732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95AD2-A4E1-4567-8A40-67AF6D9A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A20B-B392-46EB-BBC6-67D899F41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E8E2F-055B-450E-879B-3F4C31534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2075-5D0F-4B48-8BC2-8C704CB73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9993-9D8C-4A1B-B916-4E1B8941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A1F-0564-4519-9FE6-B429FCA4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E030-610C-4C2E-B528-F2D10E0D8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0E09-73FC-48D9-BA57-7E6509EA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6BD6A-DC22-4C3E-9D68-51F8C9EE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7DA-5703-4021-98CF-D4557AC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C8E1-D4BB-4451-A615-D45071AE8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29043e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B602-BFEE-496E-842A-4BEC8E6759E9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9043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A0160-1943-4CFC-9AE7-7EEA8FD51514}" type="slidenum">
              <a:rPr b="0" lang="zh-CN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5.xm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7816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28600" y="6019920"/>
            <a:ext cx="14479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2" action="ppaction://hlinksldjump"/>
              </a:rPr>
              <a:t>Pair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828800" y="4205160"/>
            <a:ext cx="1371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3" action="ppaction://hlinksldjump"/>
              </a:rPr>
              <a:t>Grammar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867280" y="4114800"/>
            <a:ext cx="160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4" action="ppaction://hlinksldjump"/>
              </a:rPr>
              <a:t>Group work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62520" y="2819520"/>
            <a:ext cx="16761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66"/>
                </a:solidFill>
                <a:uFillTx/>
                <a:latin typeface="Arial Rounded MT Bold"/>
                <a:hlinkClick r:id="rId5" action="ppaction://hlinksldjump"/>
              </a:rPr>
              <a:t>First&amp;Last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001000" y="6019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 Rounded MT Bold"/>
              </a:rPr>
              <a:t>Words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2" name="" descr="">
            <a:hlinkClick r:id="" action="ppaction://hlinkshowjump?jump=lastslide"/>
          </p:cNvPr>
          <p:cNvPicPr/>
          <p:nvPr/>
        </p:nvPicPr>
        <p:blipFill>
          <a:blip r:embed="rId6"/>
          <a:stretch/>
        </p:blipFill>
        <p:spPr>
          <a:xfrm>
            <a:off x="4343400" y="5638680"/>
            <a:ext cx="83808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76320" y="312408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What’s your name?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358128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Francisco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281952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i,Mary.I’m Ji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28195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Hello.I’m M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52480" y="5335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y name’s Jenn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495680" y="45720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I’m Gina.Nice to </a:t>
            </a:r>
            <a:br>
              <a:rPr sz="2400"/>
            </a:b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　</a:t>
            </a:r>
            <a:r>
              <a:rPr b="1" lang="en-US" sz="2400" spc="-1" strike="noStrike">
                <a:solidFill>
                  <a:srgbClr val="660066"/>
                </a:solidFill>
                <a:latin typeface="Arial Narrow"/>
              </a:rPr>
              <a:t>meet you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1600200" y="1295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What’s your name?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182880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Francisco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341316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i,Mary.I’m Jim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00200" y="2803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Hello.I’m Mar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00200" y="43876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My name’s Jenny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493704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Verdana"/>
              </a:rPr>
              <a:t>I’m Gina.Nice to meet you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Pair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457200" y="304920"/>
            <a:ext cx="32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AMMAR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11430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Berlin Sans FB Demi"/>
              </a:rPr>
              <a:t>Questions &amp; Answer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66680" y="1905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you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066680" y="36115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is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066680" y="41148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is name’s To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66680" y="483084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Arial Black"/>
              </a:rPr>
              <a:t>What’s her name?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066680" y="533412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Her name’s Gina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19320" y="2666880"/>
            <a:ext cx="7162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2438280"/>
            <a:ext cx="71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My name’s Jenny.</a:t>
            </a:r>
            <a:br>
              <a:rPr sz="3200"/>
            </a:b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I’m Jenny.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715000" y="914400"/>
            <a:ext cx="3048120" cy="4191120"/>
          </a:xfrm>
          <a:prstGeom prst="cloudCallout">
            <a:avLst>
              <a:gd name="adj1" fmla="val -63856"/>
              <a:gd name="adj2" fmla="val 58976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What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’m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I am 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’s=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   </a:t>
            </a:r>
            <a:r>
              <a:rPr b="0" lang="en-US" sz="2800" spc="-1" strike="noStrike">
                <a:solidFill>
                  <a:srgbClr val="006666"/>
                </a:solidFill>
                <a:latin typeface="Verdana"/>
              </a:rPr>
              <a:t>name is;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7620120" y="60199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75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75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75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33520" y="3348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First name &amp; last name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3860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Arial Black"/>
              </a:rPr>
              <a:t>Name = First name + Last name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352680" y="1905120"/>
            <a:ext cx="7162920" cy="901440"/>
            <a:chOff x="3352680" y="1905120"/>
            <a:chExt cx="7162920" cy="901440"/>
          </a:xfrm>
        </p:grpSpPr>
        <p:sp>
          <p:nvSpPr>
            <p:cNvPr id="203" name=""/>
            <p:cNvSpPr/>
            <p:nvPr/>
          </p:nvSpPr>
          <p:spPr>
            <a:xfrm>
              <a:off x="3352680" y="2286000"/>
              <a:ext cx="716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6666"/>
                  </a:solidFill>
                  <a:latin typeface="Arial Black"/>
                </a:rPr>
                <a:t>Given name     Family name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V="1">
              <a:off x="44956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7467480" y="1905120"/>
              <a:ext cx="0" cy="45720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352680" y="2895480"/>
            <a:ext cx="5486400" cy="356868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2057400" y="5791320"/>
            <a:ext cx="9144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334800"/>
            <a:ext cx="32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Group work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2716200"/>
            <a:ext cx="9144000" cy="41418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52280" y="396252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Ton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Linda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3352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Ben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05680" y="5500800"/>
            <a:ext cx="180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Berlin Sans FB Demi"/>
              </a:rPr>
              <a:t>Kat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230040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Ton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1873080"/>
            <a:ext cx="45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Linda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01916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Ben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Kat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447920"/>
            <a:ext cx="3581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is name’s Tony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Her name’s Linda.</a:t>
            </a:r>
            <a:br>
              <a:rPr sz="2800"/>
            </a:br>
            <a:r>
              <a:rPr b="0" lang="en-US" sz="2800" spc="-1" strike="noStrike">
                <a:solidFill>
                  <a:srgbClr val="000099"/>
                </a:solidFill>
                <a:latin typeface="Britannic Bold"/>
              </a:rPr>
              <a:t>My name’s Ben.</a:t>
            </a:r>
            <a:br>
              <a:rPr sz="2800"/>
            </a:b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8077320" y="19810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66" dur="1" fill="hold"/>
                                  <p:tgtEl>
                                    <p:spTgt spid="2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0492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99"/>
                </a:solidFill>
                <a:latin typeface="Showcard Gothic"/>
              </a:rPr>
              <a:t>Words &amp; expressions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914400" y="1143000"/>
            <a:ext cx="73152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name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字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称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名誉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命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提名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叫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指定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姓名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据以取名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914400" y="2666880"/>
            <a:ext cx="8229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fir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首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初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优先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um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个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开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第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(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比赛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)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冠军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4524480"/>
            <a:ext cx="77724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last 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  <a:ea typeface="华文新魏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的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v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后来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　　　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最后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末尾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临终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鞋楦头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e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她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295280" y="38088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y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我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1295280" y="103500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your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你们的</a:t>
            </a:r>
            <a:r>
              <a:rPr b="0" lang="zh-CN" sz="3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295280" y="24382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his: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　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pro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他的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553080" y="6095880"/>
            <a:ext cx="914400" cy="6098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7772400" y="6095880"/>
            <a:ext cx="914400" cy="6098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295280" y="4570560"/>
            <a:ext cx="75438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meet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会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集会</a:t>
            </a:r>
            <a:br>
              <a:rPr sz="2800"/>
            </a:b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adj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适宜的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合适的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295280" y="3168720"/>
            <a:ext cx="7848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look: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n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脸色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面容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外表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i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看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朝着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好象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显得</a:t>
            </a:r>
            <a:br>
              <a:rPr sz="2800"/>
            </a:b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             </a:t>
            </a:r>
            <a:r>
              <a:rPr b="0" lang="en-US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vt.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打量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注视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用眼神表示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, 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  <a:ea typeface="华文新魏"/>
              </a:rPr>
              <a:t>期待</a:t>
            </a:r>
            <a:r>
              <a:rPr b="0" lang="zh-CN" sz="2800" spc="-1" strike="noStrike">
                <a:solidFill>
                  <a:srgbClr val="000066"/>
                </a:solidFill>
                <a:latin typeface="华文新魏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"/>
          <p:cNvGrpSpPr/>
          <p:nvPr/>
        </p:nvGrpSpPr>
        <p:grpSpPr>
          <a:xfrm>
            <a:off x="1143000" y="380880"/>
            <a:ext cx="6019920" cy="914400"/>
            <a:chOff x="1143000" y="380880"/>
            <a:chExt cx="6019920" cy="914400"/>
          </a:xfrm>
        </p:grpSpPr>
        <p:sp>
          <p:nvSpPr>
            <p:cNvPr id="234" name=""/>
            <p:cNvSpPr/>
            <p:nvPr/>
          </p:nvSpPr>
          <p:spPr>
            <a:xfrm>
              <a:off x="2057400" y="515880"/>
              <a:ext cx="510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clock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时钟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5" name="" descr=""/>
            <p:cNvPicPr/>
            <p:nvPr/>
          </p:nvPicPr>
          <p:blipFill>
            <a:blip r:embed="rId1"/>
            <a:stretch/>
          </p:blipFill>
          <p:spPr>
            <a:xfrm>
              <a:off x="1143000" y="380880"/>
              <a:ext cx="884160" cy="914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914400" cy="609480"/>
          </a:xfrm>
          <a:prstGeom prst="rect">
            <a:avLst/>
          </a:prstGeom>
          <a:ln w="0">
            <a:noFill/>
          </a:ln>
        </p:spPr>
      </p:pic>
      <p:grpSp>
        <p:nvGrpSpPr>
          <p:cNvPr id="237" name=""/>
          <p:cNvGrpSpPr/>
          <p:nvPr/>
        </p:nvGrpSpPr>
        <p:grpSpPr>
          <a:xfrm>
            <a:off x="1143000" y="1779480"/>
            <a:ext cx="8001000" cy="1116720"/>
            <a:chOff x="1143000" y="1779480"/>
            <a:chExt cx="8001000" cy="1116720"/>
          </a:xfrm>
        </p:grpSpPr>
        <p:sp>
          <p:nvSpPr>
            <p:cNvPr id="238" name=""/>
            <p:cNvSpPr/>
            <p:nvPr/>
          </p:nvSpPr>
          <p:spPr>
            <a:xfrm>
              <a:off x="2133720" y="1827000"/>
              <a:ext cx="7010280" cy="106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question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问题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疑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br>
                <a:rPr sz="2800"/>
              </a:b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                   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v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询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审问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怀疑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39" name="" descr=""/>
            <p:cNvPicPr/>
            <p:nvPr/>
          </p:nvPicPr>
          <p:blipFill>
            <a:blip r:embed="rId3"/>
            <a:stretch/>
          </p:blipFill>
          <p:spPr>
            <a:xfrm>
              <a:off x="1143000" y="1779480"/>
              <a:ext cx="914400" cy="885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0" name=""/>
          <p:cNvGrpSpPr/>
          <p:nvPr/>
        </p:nvGrpSpPr>
        <p:grpSpPr>
          <a:xfrm>
            <a:off x="1143000" y="3200400"/>
            <a:ext cx="8001000" cy="990360"/>
            <a:chOff x="1143000" y="3200400"/>
            <a:chExt cx="8001000" cy="990360"/>
          </a:xfrm>
        </p:grpSpPr>
        <p:sp>
          <p:nvSpPr>
            <p:cNvPr id="241" name=""/>
            <p:cNvSpPr/>
            <p:nvPr/>
          </p:nvSpPr>
          <p:spPr>
            <a:xfrm>
              <a:off x="2133720" y="335268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girl: 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女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少女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pic>
          <p:nvPicPr>
            <p:cNvPr id="242" name="" descr=""/>
            <p:cNvPicPr/>
            <p:nvPr/>
          </p:nvPicPr>
          <p:blipFill>
            <a:blip r:embed="rId4"/>
            <a:stretch/>
          </p:blipFill>
          <p:spPr>
            <a:xfrm>
              <a:off x="1143000" y="3200400"/>
              <a:ext cx="990720" cy="990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43" name=""/>
          <p:cNvGrpSpPr/>
          <p:nvPr/>
        </p:nvGrpSpPr>
        <p:grpSpPr>
          <a:xfrm>
            <a:off x="1143000" y="4648320"/>
            <a:ext cx="8001000" cy="1066680"/>
            <a:chOff x="1143000" y="4648320"/>
            <a:chExt cx="8001000" cy="1066680"/>
          </a:xfrm>
        </p:grpSpPr>
        <p:pic>
          <p:nvPicPr>
            <p:cNvPr id="244" name="" descr=""/>
            <p:cNvPicPr/>
            <p:nvPr/>
          </p:nvPicPr>
          <p:blipFill>
            <a:blip r:embed="rId5"/>
            <a:stretch/>
          </p:blipFill>
          <p:spPr>
            <a:xfrm>
              <a:off x="1143000" y="4648320"/>
              <a:ext cx="94932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2133720" y="4876920"/>
              <a:ext cx="7010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66"/>
                  </a:solidFill>
                  <a:latin typeface="Times New Roman"/>
                </a:rPr>
                <a:t>boy: </a:t>
              </a:r>
              <a:r>
                <a:rPr b="0" lang="en-US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n.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男孩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儿子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, </a:t>
              </a:r>
              <a:r>
                <a:rPr b="0" lang="zh-CN" sz="2800" spc="-1" strike="noStrike">
                  <a:solidFill>
                    <a:srgbClr val="000066"/>
                  </a:solidFill>
                  <a:latin typeface="华文新魏"/>
                  <a:ea typeface="华文新魏"/>
                </a:rPr>
                <a:t>孩子气的人</a:t>
              </a:r>
              <a:endParaRPr b="0" lang="en-US" sz="2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1T12:13:33Z</dcterms:created>
  <dc:creator>XuYing</dc:creator>
  <dc:description/>
  <dc:language>en-US</dc:language>
  <cp:lastModifiedBy>luomingjiang</cp:lastModifiedBy>
  <dcterms:modified xsi:type="dcterms:W3CDTF">2005-09-17T00:20:49Z</dcterms:modified>
  <cp:revision>3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